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9.png" ContentType="image/pn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B84F-055B-4396-8C53-617696342BE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A8E3-1988-4184-8D8D-858BBB0E9702}" type="slidenum"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AD8B-09A4-4036-A791-99EDB3FA173E}" type="slidenum"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3310-4FAC-4A5E-953C-CD25FBB5AD77}" type="slidenum"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9702-0B6A-4A2F-B0F0-111276CB44B6}" type="slidenum"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ADBE-F47D-4C4A-9C78-68777FB9E89C}" type="slidenum"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2032-6254-4090-9AC6-963F8A61CA07}" type="slidenum">
              <a:rPr b="1" lang="ru-RU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0E9-68BB-4859-9C39-8D56BB93C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6F4-5EAF-4E83-93FA-1B6A9450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1824-BACB-42AD-BF1A-7A067324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7A25-D650-4C84-935A-E8EDE905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57BB9-ABDC-45B8-9EF1-9EF5AFC7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EEE9-1A34-4972-99DE-27BC64F0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7E8A-9764-4CD8-ADA0-1A392255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021D-A1BF-4094-AFE8-E047B4E4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6F56-9879-4959-87D7-412882B0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9129-BD62-4598-9E2C-F31B91AC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5AEC-F2CA-454B-8D74-41289FA3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F22D-FF14-4385-8370-A4366F5A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D552-4832-433A-B239-2781D690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B9E5-D17C-4B0C-AC9F-BCCE3CF9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2176-051D-4C1E-8761-0D4A2DF03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6125-F5D0-441A-8A91-DD0CB60E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C07BF-74D7-4ACD-A67B-DF63B9509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6D6D-E169-4002-A907-334D7FC7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BAE-7731-4812-AB98-DB4E3E2E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F60E-69B4-4932-AEFD-8746A234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E380-05F8-4F8B-847B-5504B288F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D54C-16D4-4EB7-954E-F9AF18CF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6BF-5C10-4E85-A405-4FDA9630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FEA1-BC56-4B26-AD1C-8B75F784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20" name="Picture 49" descr="Topbanx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FDA7-D48E-4C4C-801F-BB4212DC03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prstGeom prst="pie">
              <a:avLst/>
            </a:pr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2" name="Picture 50" descr="Topbanx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CAD3-5663-4B67-B7D7-B043D8F7906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torange.biz/download/1266.html?hard=1&amp;photo=1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C:\Users\1\Desktop\фотки\54886[1].jpg"/>
          <p:cNvPicPr/>
          <p:nvPr/>
        </p:nvPicPr>
        <p:blipFill>
          <a:blip r:embed="rId1"/>
          <a:stretch/>
        </p:blipFill>
        <p:spPr>
          <a:xfrm>
            <a:off x="500040" y="3714840"/>
            <a:ext cx="2857680" cy="2714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1\Desktop\фотки\gl_005th[1].jpg"/>
          <p:cNvPicPr/>
          <p:nvPr/>
        </p:nvPicPr>
        <p:blipFill>
          <a:blip r:embed="rId2"/>
          <a:srcRect l="4762" t="5231" r="4762" b="3309"/>
          <a:stretch/>
        </p:blipFill>
        <p:spPr>
          <a:xfrm>
            <a:off x="2928960" y="2000160"/>
            <a:ext cx="2714760" cy="292896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http://www.memorial.krsk.ru/work/konkurs/8/Garbovska/5.jpg"/>
          <p:cNvPicPr/>
          <p:nvPr/>
        </p:nvPicPr>
        <p:blipFill>
          <a:blip r:embed="rId3"/>
          <a:stretch/>
        </p:blipFill>
        <p:spPr>
          <a:xfrm>
            <a:off x="5429160" y="42876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1\Desktop\фотки\2[1].jpg"/>
          <p:cNvPicPr/>
          <p:nvPr/>
        </p:nvPicPr>
        <p:blipFill>
          <a:blip r:embed="rId1"/>
          <a:stretch/>
        </p:blipFill>
        <p:spPr>
          <a:xfrm>
            <a:off x="4500720" y="214200"/>
            <a:ext cx="4643280" cy="4429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" descr="C:\Users\1\Desktop\фотки\10_familie001[1].jpg"/>
          <p:cNvPicPr/>
          <p:nvPr/>
        </p:nvPicPr>
        <p:blipFill>
          <a:blip r:embed="rId2"/>
          <a:srcRect l="0" t="1003" r="0" b="6715"/>
          <a:stretch/>
        </p:blipFill>
        <p:spPr>
          <a:xfrm>
            <a:off x="285840" y="2214720"/>
            <a:ext cx="4572000" cy="4429080"/>
          </a:xfrm>
          <a:prstGeom prst="rect">
            <a:avLst/>
          </a:prstGeom>
          <a:ln w="0">
            <a:noFill/>
          </a:ln>
        </p:spPr>
      </p:pic>
      <p:sp>
        <p:nvSpPr>
          <p:cNvPr id="168" name="TextBox 3"/>
          <p:cNvSpPr/>
          <p:nvPr/>
        </p:nvSpPr>
        <p:spPr>
          <a:xfrm>
            <a:off x="357120" y="357120"/>
            <a:ext cx="421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</a:rPr>
              <a:t>СЕМЬЯ  КАК ОБЩЕЧЕЛОВЕЧЕСКАЯ ЦЕННОСТЬ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Детство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0" name="WordArt 21"/>
          <p:cNvSpPr txBox="1"/>
          <p:nvPr/>
        </p:nvSpPr>
        <p:spPr>
          <a:xfrm>
            <a:off x="3657600" y="121284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70c0"/>
                </a:solidFill>
                <a:latin typeface="Impact"/>
              </a:rPr>
              <a:t>Особый период :</a:t>
            </a:r>
            <a:endParaRPr b="1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70c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ff"/>
                  </a:solidFill>
                  <a:miter/>
                </a:ln>
                <a:solidFill>
                  <a:srgbClr val="0070c0"/>
                </a:solidFill>
                <a:latin typeface="Impact"/>
              </a:rPr>
              <a:t>все - впереди</a:t>
            </a:r>
            <a:endParaRPr b="1" lang="en-US" sz="2400" spc="1" strike="noStrike">
              <a:ln w="9360">
                <a:solidFill>
                  <a:srgbClr val="ffccff"/>
                </a:solidFill>
                <a:miter/>
              </a:ln>
              <a:solidFill>
                <a:srgbClr val="0070c0"/>
              </a:solidFill>
              <a:latin typeface="Impact"/>
              <a:ea typeface="Impact"/>
            </a:endParaRPr>
          </a:p>
        </p:txBody>
      </p:sp>
      <p:grpSp>
        <p:nvGrpSpPr>
          <p:cNvPr id="171" name="Group 25"/>
          <p:cNvGrpSpPr/>
          <p:nvPr/>
        </p:nvGrpSpPr>
        <p:grpSpPr>
          <a:xfrm>
            <a:off x="1457280" y="2819520"/>
            <a:ext cx="1743120" cy="1752120"/>
            <a:chOff x="1457280" y="2819520"/>
            <a:chExt cx="1743120" cy="1752120"/>
          </a:xfrm>
        </p:grpSpPr>
        <p:sp>
          <p:nvSpPr>
            <p:cNvPr id="172" name="WordArt 23"/>
            <p:cNvSpPr txBox="1"/>
            <p:nvPr/>
          </p:nvSpPr>
          <p:spPr>
            <a:xfrm>
              <a:off x="1457280" y="3429000"/>
              <a:ext cx="1743120" cy="1142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0066cc"/>
                  </a:solidFill>
                  <a:latin typeface="Impact"/>
                </a:rPr>
                <a:t>права</a:t>
              </a:r>
              <a:endParaRPr b="1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ffffff"/>
                    </a:solidFill>
                    <a:miter/>
                  </a:ln>
                  <a:solidFill>
                    <a:srgbClr val="0066cc"/>
                  </a:solidFill>
                  <a:latin typeface="Impact"/>
                </a:rPr>
                <a:t>ребенка</a:t>
              </a:r>
              <a:endParaRPr b="1" lang="en-US" sz="24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66cc"/>
                </a:solidFill>
                <a:latin typeface="Impact"/>
                <a:ea typeface="Impact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>
              <a:off x="2328840" y="2819520"/>
              <a:ext cx="0" cy="533160"/>
            </a:xfrm>
            <a:prstGeom prst="line">
              <a:avLst/>
            </a:prstGeom>
            <a:ln w="7632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4" name="Group 28"/>
          <p:cNvGrpSpPr/>
          <p:nvPr/>
        </p:nvGrpSpPr>
        <p:grpSpPr>
          <a:xfrm>
            <a:off x="3605760" y="3357720"/>
            <a:ext cx="5077440" cy="1300320"/>
            <a:chOff x="3605760" y="3357720"/>
            <a:chExt cx="5077440" cy="1300320"/>
          </a:xfrm>
        </p:grpSpPr>
        <p:pic>
          <p:nvPicPr>
            <p:cNvPr id="175" name="WordArt 26" descr=""/>
            <p:cNvPicPr/>
            <p:nvPr/>
          </p:nvPicPr>
          <p:blipFill>
            <a:blip r:embed="rId1"/>
            <a:stretch/>
          </p:blipFill>
          <p:spPr>
            <a:xfrm>
              <a:off x="3633840" y="3357720"/>
              <a:ext cx="5041800" cy="43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Text Box 27"/>
            <p:cNvSpPr/>
            <p:nvPr/>
          </p:nvSpPr>
          <p:spPr>
            <a:xfrm>
              <a:off x="3605760" y="3832560"/>
              <a:ext cx="507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Times New Roman"/>
                </a:rPr>
                <a:t>-имеет право на защиту со стороны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cc"/>
                  </a:solidFill>
                  <a:latin typeface="Times New Roman"/>
                </a:rPr>
                <a:t>семьи, общества и государства </a:t>
              </a: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7" name="Rectangle 29"/>
          <p:cNvSpPr/>
          <p:nvPr/>
        </p:nvSpPr>
        <p:spPr>
          <a:xfrm>
            <a:off x="762120" y="4800600"/>
            <a:ext cx="8229600" cy="1981080"/>
          </a:xfrm>
          <a:prstGeom prst="rect">
            <a:avLst/>
          </a:prstGeom>
          <a:solidFill>
            <a:srgbClr val="3a585a"/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право на социальную защиту - питание, жилище,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медицинское обслуживание, образование и т, д.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защита государством неполноценных детей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-защита от всех форм эксплуатации и т. д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13" descr="C:\Users\1\Desktop\фотки\images[1].jpg"/>
          <p:cNvPicPr/>
          <p:nvPr/>
        </p:nvPicPr>
        <p:blipFill>
          <a:blip r:embed="rId2"/>
          <a:stretch/>
        </p:blipFill>
        <p:spPr>
          <a:xfrm>
            <a:off x="1071720" y="1000080"/>
            <a:ext cx="228600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Box 2"/>
          <p:cNvSpPr/>
          <p:nvPr/>
        </p:nvSpPr>
        <p:spPr>
          <a:xfrm>
            <a:off x="928800" y="36432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Рисунок 3" descr="Отечественная война и Великая Победа! (150 фото)"/>
          <p:cNvPicPr/>
          <p:nvPr/>
        </p:nvPicPr>
        <p:blipFill>
          <a:blip r:embed="rId1"/>
          <a:stretch/>
        </p:blipFill>
        <p:spPr>
          <a:xfrm>
            <a:off x="4786200" y="357120"/>
            <a:ext cx="4143600" cy="43578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E:\О войне\160[1].jpg"/>
          <p:cNvPicPr/>
          <p:nvPr/>
        </p:nvPicPr>
        <p:blipFill>
          <a:blip r:embed="rId2"/>
          <a:stretch/>
        </p:blipFill>
        <p:spPr>
          <a:xfrm>
            <a:off x="357120" y="2643120"/>
            <a:ext cx="4357800" cy="392904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"/>
          <p:cNvSpPr/>
          <p:nvPr/>
        </p:nvSpPr>
        <p:spPr>
          <a:xfrm>
            <a:off x="4786200" y="4857840"/>
            <a:ext cx="4929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усть всех имен не назову-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ет кровнее родни…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е потому ли я живу,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Что умерли они?!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500040" y="357120"/>
            <a:ext cx="5072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сь под ногами шар земной!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Живу, дышу, пою…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Но в памяти всегда со мной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огибшие в бою.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571680" y="1360440"/>
            <a:ext cx="400032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Calibri"/>
              </a:rPr>
              <a:t>Поколение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Calibri"/>
              </a:rPr>
              <a:t>2. Возрастная когорта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Calibri"/>
              </a:rPr>
              <a:t>3. Связь поколений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4429080" y="2067480"/>
            <a:ext cx="4714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А.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Процесс, обеспечивающий преемственность в развитии человеческого рода.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Б.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Интервал времени между средним возрастом родителей и детей.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В. </a:t>
            </a: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Совокупность индивидов, принадлежащих  по рождению к одному и тому же временному периоду ( месяцу, году).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TextBox 5"/>
          <p:cNvSpPr/>
          <p:nvPr/>
        </p:nvSpPr>
        <p:spPr>
          <a:xfrm>
            <a:off x="1928880" y="6429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642960" y="78588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Соотнесите  понятие и определение.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500040" y="696960"/>
            <a:ext cx="864396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Calibri"/>
              </a:rPr>
              <a:t>   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Calibri"/>
              </a:rPr>
              <a:t>II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Calibri"/>
              </a:rPr>
              <a:t>.  Верны ли следующие высказывания о   преемственности поколений?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А. Преемственность проявляется в наследовании   молодым поколением культуры,  созданной предшествующими поколениями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Б.  Преемственность всегда избирательна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714240" y="478620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рно только А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рно только Б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Rectangle 2"/>
          <p:cNvSpPr/>
          <p:nvPr/>
        </p:nvSpPr>
        <p:spPr>
          <a:xfrm flipV="1" rot="10800000">
            <a:off x="4500720" y="483840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Calibri"/>
              </a:rPr>
              <a:t>3.   Верны оба суждения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Calibri"/>
              </a:rPr>
              <a:t>4.  Оба суждения 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еверн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500040" y="1209960"/>
            <a:ext cx="84297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Calibri"/>
              </a:rPr>
              <a:t>III. Ответьте на вопрос, и кратко   прокомментируйте:  почему  вы  так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Calibri"/>
              </a:rPr>
              <a:t>       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Calibri"/>
              </a:rPr>
              <a:t>думаете?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1f20"/>
                </a:solidFill>
                <a:latin typeface="Times New Roman"/>
                <a:ea typeface="Calibri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Calibri"/>
              </a:rPr>
              <a:t>Возможна ли гармония в отношениях между поколениями? 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"/>
          <p:cNvSpPr/>
          <p:nvPr/>
        </p:nvSpPr>
        <p:spPr>
          <a:xfrm>
            <a:off x="571680" y="1360440"/>
            <a:ext cx="400032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  <a:ea typeface="Calibri"/>
              </a:rPr>
              <a:t>Поколение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buClr>
                <a:srgbClr val="ffff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ff33"/>
                </a:solidFill>
                <a:latin typeface="Times New Roman"/>
                <a:ea typeface="Calibri"/>
              </a:rPr>
              <a:t>2. Возрастная когорта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Calibri"/>
              </a:rPr>
              <a:t>3. Связь поколений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4429080" y="2067480"/>
            <a:ext cx="47149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Calibri"/>
              </a:rPr>
              <a:t>А. Процесс, обеспечивающий преемственность в развитии человеческого рода.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cc"/>
                </a:solidFill>
                <a:latin typeface="Times New Roman"/>
                <a:ea typeface="Calibri"/>
              </a:rPr>
              <a:t>Б. Интервал времени между средним возрастом родителей и детей.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  <a:ea typeface="Calibri"/>
              </a:rPr>
              <a:t>В. Совокупность индивидов, принадлежащих  по рождению к одному и тому же временному периоду ( месяцу, году).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1928880" y="64296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642960" y="785880"/>
            <a:ext cx="750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</a:rPr>
              <a:t>Соотнесите  понятие и определение.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500040" y="696960"/>
            <a:ext cx="8643960" cy="35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Calibri"/>
              </a:rPr>
              <a:t>    </a:t>
            </a:r>
            <a:r>
              <a:rPr b="1" lang="en-US" sz="3200" spc="-1" strike="noStrike">
                <a:solidFill>
                  <a:srgbClr val="ffcc00"/>
                </a:solidFill>
                <a:latin typeface="Times New Roman"/>
                <a:ea typeface="Calibri"/>
              </a:rPr>
              <a:t>II</a:t>
            </a:r>
            <a:r>
              <a:rPr b="1" lang="ru-RU" sz="3200" spc="-1" strike="noStrike">
                <a:solidFill>
                  <a:srgbClr val="ffcc00"/>
                </a:solidFill>
                <a:latin typeface="Times New Roman"/>
                <a:ea typeface="Calibri"/>
              </a:rPr>
              <a:t>.  Верны ли следующие высказывания о   преемственности поколений?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А. Преемственность проявляется в наследовании   молодым поколением культуры,  созданной предшествующими поколениями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Б.  Преемственность всегда избирательна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714240" y="4786200"/>
            <a:ext cx="335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рно только А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Верно только Б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Rectangle 2"/>
          <p:cNvSpPr/>
          <p:nvPr/>
        </p:nvSpPr>
        <p:spPr>
          <a:xfrm flipV="1" rot="10800000">
            <a:off x="4500720" y="483840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33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66ff33"/>
                </a:solidFill>
                <a:latin typeface="Times New Roman"/>
                <a:ea typeface="Calibri"/>
              </a:rPr>
              <a:t>3.   Верны оба суждения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Calibri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Times New Roman"/>
                <a:ea typeface="Calibri"/>
              </a:rPr>
              <a:t>4.  Оба суждения н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Calibri"/>
              </a:rPr>
              <a:t>еверны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500040" y="101160"/>
            <a:ext cx="8643960" cy="76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e9e9e9"/>
                </a:solidFill>
                <a:latin typeface="Calibri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e9e9e9"/>
                </a:solidFill>
                <a:latin typeface="Times New Roman"/>
                <a:ea typeface="Times New Roman"/>
              </a:rPr>
              <a:t>«Зачеркнуть прошлое невозможно; пытайтесь лучше создать настоящее, не отвечайте ненавистью на ненависть, не будьте злопамятны, черствы... Не презирайте мастеров прошлого; если слава их дошла до нашего времени, значит, они это заслужили... Цель не только в том, чтобы преуспеть, добиться «бренных вещей», но в том, чтобы иметь право, заглянув в свою душу при свете совести, убедиться, что сделанным можно гордиться или, по крайней мере, не краснеть за него. Приятно на старости лет пожить в почете, старики немощны и нуждаются в моральной поддержке. Цель жизни не в том, чтобы стяжать себе бессмертную славу. Она в том, чтобы превращать каждый день в маленькую вечность».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9e9e9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e9e9e9"/>
                </a:solidFill>
                <a:latin typeface="Times New Roman"/>
                <a:ea typeface="Times New Roman"/>
              </a:rPr>
              <a:t>Андре Моруа , французский писатель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785880" y="724320"/>
            <a:ext cx="814392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9e"/>
                </a:solidFill>
                <a:latin typeface="Calibri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9e"/>
                </a:solidFill>
                <a:latin typeface="Calibri"/>
                <a:ea typeface="Times New Roman"/>
              </a:rPr>
              <a:t>Домашнее задание:</a:t>
            </a:r>
            <a:endParaRPr b="1" lang="en-US" sz="4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e"/>
                </a:solidFill>
                <a:latin typeface="Calibri"/>
                <a:ea typeface="Times New Roman"/>
              </a:rPr>
              <a:t>параграф   № 23;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e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9e"/>
                </a:solidFill>
                <a:latin typeface="Calibri"/>
                <a:ea typeface="Times New Roman"/>
              </a:rPr>
              <a:t>вопросы и задания на странице 138 – 139; 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9e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e"/>
                </a:solidFill>
                <a:latin typeface="Calibri"/>
                <a:ea typeface="Times New Roman"/>
              </a:rPr>
              <a:t>вспомните и приведите примеры из истории, литературы, повседневной жизни, которые наглядно отражают проблемы взаимосвязи поколений.</a:t>
            </a:r>
            <a:endParaRPr b="1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вязь 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колений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"/>
          <p:cNvSpPr/>
          <p:nvPr/>
        </p:nvSpPr>
        <p:spPr>
          <a:xfrm>
            <a:off x="0" y="645480"/>
            <a:ext cx="87868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ru-RU" sz="40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Два чувства дивно близки нам –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В них обретает сердце пищу -</a:t>
            </a:r>
            <a:br>
              <a:rPr sz="4000"/>
            </a:br>
            <a:r>
              <a:rPr b="1" lang="ru-RU" sz="40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Любовь к родному пепелищу,</a:t>
            </a:r>
            <a:br>
              <a:rPr sz="4000"/>
            </a:br>
            <a:r>
              <a:rPr b="1" lang="ru-RU" sz="40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Любовь к отеческим гробам.</a:t>
            </a:r>
            <a:br>
              <a:rPr sz="4000"/>
            </a:br>
            <a:r>
              <a:rPr b="1" lang="ru-RU" sz="40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                               А.С. Пушкин.  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928800" y="4760280"/>
            <a:ext cx="70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ccff"/>
                </a:solidFill>
                <a:latin typeface="Times New Roman"/>
                <a:ea typeface="Times New Roman"/>
              </a:rPr>
              <a:t>                                                                     </a:t>
            </a:r>
            <a:endParaRPr b="1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1000080" y="3929040"/>
            <a:ext cx="81439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ccff"/>
                </a:solidFill>
                <a:latin typeface="Times New Roman"/>
              </a:rPr>
              <a:t>     </a:t>
            </a:r>
            <a:r>
              <a:rPr b="1" lang="ru-RU" sz="4000" spc="-1" strike="noStrike">
                <a:solidFill>
                  <a:srgbClr val="99ccff"/>
                </a:solidFill>
                <a:latin typeface="Times New Roman"/>
              </a:rPr>
              <a:t>Что может быть приятнее 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imes New Roman"/>
              </a:rPr>
              <a:t>старости, окруженной вниманием 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imes New Roman"/>
              </a:rPr>
              <a:t>юношества.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ccff"/>
                </a:solidFill>
                <a:latin typeface="Times New Roman"/>
              </a:rPr>
              <a:t>                                        </a:t>
            </a:r>
            <a:r>
              <a:rPr b="1" lang="ru-RU" sz="4000" spc="-1" strike="noStrike">
                <a:solidFill>
                  <a:srgbClr val="99ccff"/>
                </a:solidFill>
                <a:latin typeface="Times New Roman"/>
              </a:rPr>
              <a:t>Цицерон  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3929040" y="1071720"/>
            <a:ext cx="4714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Под </a:t>
            </a:r>
            <a:r>
              <a:rPr b="1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поколением</a:t>
            </a:r>
            <a:r>
              <a:rPr b="1" lang="ru-RU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обычно понимают интервал времени между средним возрастом родителей  и детей.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4000680" y="4214880"/>
            <a:ext cx="40003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eaeaea"/>
                </a:solidFill>
                <a:uFillTx/>
                <a:latin typeface="Times New Roman"/>
              </a:rPr>
              <a:t>Возрастная когорта 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включает в себя людей, родившихся в одном году.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7" name="Group 101"/>
          <p:cNvGrpSpPr/>
          <p:nvPr/>
        </p:nvGrpSpPr>
        <p:grpSpPr>
          <a:xfrm>
            <a:off x="950760" y="990720"/>
            <a:ext cx="2527200" cy="2818800"/>
            <a:chOff x="950760" y="990720"/>
            <a:chExt cx="2527200" cy="2818800"/>
          </a:xfrm>
        </p:grpSpPr>
        <p:pic>
          <p:nvPicPr>
            <p:cNvPr id="148" name="Picture 99" descr="bd07223_"/>
            <p:cNvPicPr/>
            <p:nvPr/>
          </p:nvPicPr>
          <p:blipFill>
            <a:blip r:embed="rId1">
              <a:lum bright="18000"/>
            </a:blip>
            <a:stretch/>
          </p:blipFill>
          <p:spPr>
            <a:xfrm>
              <a:off x="950760" y="990720"/>
              <a:ext cx="2527200" cy="2255760"/>
            </a:xfrm>
            <a:prstGeom prst="rect">
              <a:avLst/>
            </a:prstGeom>
            <a:ln w="76320">
              <a:solidFill>
                <a:srgbClr val="72a3b1"/>
              </a:solidFill>
              <a:miter/>
            </a:ln>
          </p:spPr>
        </p:pic>
        <p:sp>
          <p:nvSpPr>
            <p:cNvPr id="149" name="Text Box 100"/>
            <p:cNvSpPr/>
            <p:nvPr/>
          </p:nvSpPr>
          <p:spPr>
            <a:xfrm>
              <a:off x="2121840" y="3348720"/>
              <a:ext cx="184680" cy="460800"/>
            </a:xfrm>
            <a:prstGeom prst="rect">
              <a:avLst/>
            </a:prstGeom>
            <a:noFill/>
            <a:ln w="9360">
              <a:solidFill>
                <a:srgbClr val="72a3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50" name="Picture 102" descr="bd10921_"/>
          <p:cNvPicPr/>
          <p:nvPr/>
        </p:nvPicPr>
        <p:blipFill>
          <a:blip r:embed="rId2"/>
          <a:stretch/>
        </p:blipFill>
        <p:spPr>
          <a:xfrm>
            <a:off x="2357280" y="3929040"/>
            <a:ext cx="1285920" cy="2500200"/>
          </a:xfrm>
          <a:prstGeom prst="rect">
            <a:avLst/>
          </a:prstGeom>
          <a:ln w="76320">
            <a:solidFill>
              <a:srgbClr val="72a3b1"/>
            </a:solidFill>
            <a:miter/>
          </a:ln>
        </p:spPr>
      </p:pic>
      <p:pic>
        <p:nvPicPr>
          <p:cNvPr id="151" name="Picture 103" descr="pe02062_"/>
          <p:cNvPicPr/>
          <p:nvPr/>
        </p:nvPicPr>
        <p:blipFill>
          <a:blip r:embed="rId3"/>
          <a:stretch/>
        </p:blipFill>
        <p:spPr>
          <a:xfrm>
            <a:off x="857160" y="3929040"/>
            <a:ext cx="1214640" cy="2571840"/>
          </a:xfrm>
          <a:prstGeom prst="rect">
            <a:avLst/>
          </a:prstGeom>
          <a:ln w="76320">
            <a:solidFill>
              <a:srgbClr val="72a3b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Рисунок 2" descr="http://kizhi.karelia.ru/culture/crafts/agriculture/2_.jpg"/>
          <p:cNvPicPr/>
          <p:nvPr/>
        </p:nvPicPr>
        <p:blipFill>
          <a:blip r:embed="rId1"/>
          <a:stretch/>
        </p:blipFill>
        <p:spPr>
          <a:xfrm>
            <a:off x="642960" y="2428920"/>
            <a:ext cx="4214880" cy="40719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Весенние полевые работы. Трактор в поле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357120"/>
            <a:ext cx="4143240" cy="34290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714240" y="500040"/>
            <a:ext cx="364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</a:rPr>
              <a:t>Проблема преемственности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TextBox 5"/>
          <p:cNvSpPr/>
          <p:nvPr/>
        </p:nvSpPr>
        <p:spPr>
          <a:xfrm>
            <a:off x="5072040" y="4143240"/>
            <a:ext cx="4071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Смена поколений – это процесс,    который обеспечивает  преемственность    в развитии человеческого рода.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1"/>
          <p:cNvSpPr/>
          <p:nvPr/>
        </p:nvSpPr>
        <p:spPr>
          <a:xfrm>
            <a:off x="357120" y="2484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d3d3"/>
                </a:solidFill>
                <a:latin typeface="Times New Roman"/>
                <a:ea typeface="Times New Roman"/>
              </a:rPr>
              <a:t>Предметом преемственности являются следующие социальные качества и черты образа жизни: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d3d3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3d3d3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d3d3d3"/>
                </a:solidFill>
                <a:latin typeface="Times New Roman"/>
                <a:ea typeface="Times New Roman"/>
              </a:rPr>
              <a:t>трудолюбие;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d3d3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3d3d3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d3d3d3"/>
                </a:solidFill>
                <a:latin typeface="Times New Roman"/>
                <a:ea typeface="Times New Roman"/>
              </a:rPr>
              <a:t>профессиональное мастерство;       общественно-политическая  активность;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d3d3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3d3d3"/>
                </a:solidFill>
                <a:latin typeface="Times New Roman"/>
                <a:ea typeface="Times New Roman"/>
              </a:rPr>
              <a:t>патриотизм; 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d3d3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3d3d3"/>
                </a:solidFill>
                <a:latin typeface="Times New Roman"/>
                <a:ea typeface="Times New Roman"/>
              </a:rPr>
              <a:t>возрастающий уровень образования и культуры личности;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buClr>
                <a:srgbClr val="d3d3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3d3d3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d3d3d3"/>
                </a:solidFill>
                <a:latin typeface="Times New Roman"/>
                <a:ea typeface="Times New Roman"/>
              </a:rPr>
              <a:t>нравственность.</a:t>
            </a:r>
            <a:endParaRPr b="1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Рисунок 2" descr="http://project-gym6.narod.ru/2/631/pic/115.jpg"/>
          <p:cNvPicPr/>
          <p:nvPr/>
        </p:nvPicPr>
        <p:blipFill>
          <a:blip r:embed="rId1"/>
          <a:stretch/>
        </p:blipFill>
        <p:spPr>
          <a:xfrm>
            <a:off x="1643040" y="1357200"/>
            <a:ext cx="5786640" cy="4929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1785960" y="4158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9e"/>
                </a:solidFill>
                <a:latin typeface="Times New Roman"/>
              </a:rPr>
              <a:t>Проблема «отцов» и « детей»</a:t>
            </a:r>
            <a:endParaRPr b="1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gb" descr="http://bibliotekar.ru/kKramskoy/9.files/image001.jpg"/>
          <p:cNvPicPr/>
          <p:nvPr/>
        </p:nvPicPr>
        <p:blipFill>
          <a:blip r:embed="rId1"/>
          <a:stretch/>
        </p:blipFill>
        <p:spPr>
          <a:xfrm>
            <a:off x="571680" y="642960"/>
            <a:ext cx="3571560" cy="4071960"/>
          </a:xfrm>
          <a:prstGeom prst="rect">
            <a:avLst/>
          </a:prstGeom>
          <a:ln w="0">
            <a:noFill/>
          </a:ln>
        </p:spPr>
      </p:pic>
      <p:pic>
        <p:nvPicPr>
          <p:cNvPr id="160" name="imgb" descr="http://t3.gstatic.com/images?q=tbn:9Vq7atP7xVZZnM"/>
          <p:cNvPicPr/>
          <p:nvPr/>
        </p:nvPicPr>
        <p:blipFill>
          <a:blip r:embed="rId2"/>
          <a:stretch/>
        </p:blipFill>
        <p:spPr>
          <a:xfrm>
            <a:off x="5000760" y="642960"/>
            <a:ext cx="3500280" cy="407196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928800" y="4929120"/>
            <a:ext cx="23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Н. А. Некрасов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(1821- 1878 ),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русский поэт 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TextBox 4"/>
          <p:cNvSpPr/>
          <p:nvPr/>
        </p:nvSpPr>
        <p:spPr>
          <a:xfrm>
            <a:off x="5429160" y="4929120"/>
            <a:ext cx="264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И. С. Тургенев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(1818- 1883),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русский писатель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Users\1\Desktop\Новая папка (3)\Rembrandt_30256[1].jpg"/>
          <p:cNvPicPr/>
          <p:nvPr/>
        </p:nvPicPr>
        <p:blipFill>
          <a:blip r:embed="rId1"/>
          <a:srcRect l="3454" t="4999" r="8615" b="8750"/>
          <a:stretch/>
        </p:blipFill>
        <p:spPr>
          <a:xfrm>
            <a:off x="2000160" y="1000080"/>
            <a:ext cx="5072040" cy="4857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2071800" y="214200"/>
            <a:ext cx="53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aecf0"/>
                </a:solidFill>
                <a:latin typeface="Times New Roman"/>
              </a:rPr>
              <a:t>Проблема «отцов» и «детей»</a:t>
            </a:r>
            <a:endParaRPr b="1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2214720" y="6000840"/>
            <a:ext cx="49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Рембрант ван Рейн (1606- 1609),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aecf0"/>
                </a:solidFill>
                <a:latin typeface="Times New Roman"/>
              </a:rPr>
              <a:t>«Возвращение блудного сына»</a:t>
            </a:r>
            <a:endParaRPr b="1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User1</cp:lastModifiedBy>
  <dcterms:modified xsi:type="dcterms:W3CDTF">2010-02-25T14:12:39Z</dcterms:modified>
  <cp:revision>159</cp:revision>
  <dc:subject/>
  <dc:title>Презентация PowerPoint</dc:title>
</cp:coreProperties>
</file>